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9AA22-0EF3-427C-913C-5B7382F96A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hyperphysics.phy-astr.gsu.edu/hbase/biology/calvin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combined with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E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o form 4-carbo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xaloacet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enzyme PEP carboxylase) in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sophyl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xaloacet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converted to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mal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then transported into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ndle-sheath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mal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decarboxylated forming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yruv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nd 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nters the Calvin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botany.hawaii.edu/faculty/webb/bot311/bot311-00/psyn/PsynDark2.htm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hyperphysics.phy-astr.gsu.edu/hbase/biology/calvin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assulacean acid metabolism (CAM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first discovered i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rassulace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amily of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mata are closed during the day, so 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only absorbed at n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athway at night,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athway (Calvin cycle) during the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safety4sea.com/page/14377/3/progress-in-fuel-creation-from-carbon-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passel.unl.edu/pages/informationmodule.php?idinformationmodule=1092853841&amp;topicorder=5&amp;maxto=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ncbi.nlm.nih.gov/books/NBK22344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n.m.wikipedia.org/wiki/File:Simplified_photorespiration_diagram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040C-74DD-42BC-AAF6-5897DE67E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DB54-5A91-4E9B-812F-A34CF20A6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2A19-8175-4D35-A4C8-54979F1A5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43B2-CDC4-468F-8123-8328A1C5A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CCC7-4D3F-45A4-8B9C-B1BA74548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171F-2F03-48CF-9115-4A17DB7B7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E2D4-B6B9-44AF-866C-3F66CC3EF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4C99-93A7-48E6-88E7-D9266F658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9402-A37D-468E-9EF6-DC77A9A64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6493-DEE4-4497-8DE9-7CC79456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8C3B-C51E-44E0-9EC5-471A7AF6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FBC3-62F4-47B9-AA51-7E7A53CA6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6AD5A-7765-4402-9519-1B6B50744F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uic.edu/classes/bios/bios100/lectures/c4.htm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highered.mcgraw-hill.com/sites/0070271348/student_view0/chapter6/chapter_quiz.html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native Mechanisms of Carbon Fix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5.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Photo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685960" y="1981080"/>
            <a:ext cx="3772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Photo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249200" y="1981080"/>
            <a:ext cx="6645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252440" y="1981080"/>
            <a:ext cx="2675160" cy="19814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313240" y="4114800"/>
            <a:ext cx="2479680" cy="19810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4800600" y="1981080"/>
            <a:ext cx="2092320" cy="1981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1778040" y="4114800"/>
            <a:ext cx="26416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M 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808280" y="1981080"/>
            <a:ext cx="5526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M 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270080" y="1981080"/>
            <a:ext cx="2641680" cy="19814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557680" y="4114800"/>
            <a:ext cx="1986120" cy="19810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1846440" y="4114800"/>
            <a:ext cx="1488960" cy="19810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5989680" y="1981080"/>
            <a:ext cx="112716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rrated animation of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hotosynthe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CAM pla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uic.edu/classes/bios/bios100/lectures/c4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yoursel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self-quiz multiple choice quizzes from McGraw-Hill Ryers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highered.mcgraw-hill.com/sites/0070271348/student_view0/chapter6/chapter_quiz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highered.mcgraw-hill.com/sites/0073403474/student_view0/chapter5/pre-test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plants nee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photosynthe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n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bon Diox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04% of atmosphere is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% is oxy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343400" y="2505240"/>
            <a:ext cx="449568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419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d plants need to limit water loss &amp; adapt to water avail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aptations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waxy cuti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stom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70480" y="1676520"/>
            <a:ext cx="251784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bulose-1,5-bisphosphat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boxylase oxid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BisCO catalyzes the first reaction of the Calvin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s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also catalyze reaction between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RuB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719600" y="2209680"/>
            <a:ext cx="3665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respi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s onl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 molecule of 3-P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produces a molecule that is not useful to the cell that must be removed in a series of reactions, which use ATP release 1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52280" y="887400"/>
            <a:ext cx="891540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l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BisCO has a higher affinity for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n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binds to it 75% of the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hot &amp; dry clim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mata close &amp; relative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centration decreases due to Calvin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’s a pla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03:23:18Z</dcterms:created>
  <dc:creator>rubina khan</dc:creator>
  <dc:description/>
  <dc:language>en-US</dc:language>
  <cp:lastModifiedBy>rubina khan</cp:lastModifiedBy>
  <dcterms:modified xsi:type="dcterms:W3CDTF">2013-11-01T17:11:31Z</dcterms:modified>
  <cp:revision>125</cp:revision>
  <dc:subject/>
  <dc:title>Photosynthesis</dc:title>
</cp:coreProperties>
</file>